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D54-1101-479B-B7C8-3572DA84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F27-9EA7-4744-B314-3B543970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BFE-11E2-4B63-A710-0CED9FD6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0AE-318D-43BD-8CF3-A29E1449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9DFD-4026-43CE-B221-91F2FFBE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5F1E-B66A-4E57-B23D-95207705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3451-BE72-486A-B729-F53D31EC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079A-31CB-4CFA-BCF8-64BF725C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C37B-50BB-4F5F-A02B-3E45AE68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07C0-B056-4D21-8DCA-56F73F4B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E20D-1953-4DDD-8065-AFB7CAD7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FE4-CF9C-4E3F-989D-1C347D17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5603-B2F7-41BB-B560-C6F1701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0CAA-B243-4C30-8352-63D6655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39BF-66D7-4580-8537-7FFD060A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C7BC-F330-4BEF-8166-3EDF71D2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E837-0225-4648-B3E3-F3295358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5E3-75DE-4198-8783-B208F787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08D-2B18-49C6-BDFF-FA177FED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FFD-7FED-4C0B-A5B4-CBD68A1D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825-DB28-4529-AC74-4450362A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31A-E9A5-4A62-8406-1FD5FF5D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A29-BDB6-4217-B513-DA92AC63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613-ECA3-4428-9730-A5A8F41D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F459-E04D-48B2-BEE6-DD5A7757F57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D468-27A7-408C-A77E-8F39FD2C611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Выполнила Пешкина Наталья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636 групп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76360" y="838080"/>
            <a:ext cx="6191280" cy="32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спорта комнатных расте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Бальзамин султанский (семейство Бальзаминовые)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5410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на – тропики Африки. Неприхотливое, обильно цветущее растение небольшого размера с сильно ветвящимися светло-зелеными сочными полупрозрачными стеблями. На их находятся небольшие поочередно расположенные светлые блестящие листья яйцевидной формы, на длинных черешках; край листа зубчатый. Бальзамин комнатный обильно и продолжительно цветет ярко розовыми или малиновыми цветками, реже лилиловыми или белыми, простыми или махровыми, имеющими шпорец. Бальзамин светолюбивое быстро растущее растение, развивается в любой почве, но предпочитает легкую питательную земляную смесь. Поливают бальзамин зимой умеренно, летом обильно; притеняют от прямых солнечных лучей. Бальзамины быстро стареют и требуют омоложения. Бальзамин размножается семенами и черенками, которые легко приживаютс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63363" t="65982" r="5146" b="7508"/>
          <a:stretch/>
        </p:blipFill>
        <p:spPr>
          <a:xfrm>
            <a:off x="6400800" y="2438280"/>
            <a:ext cx="237024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Бегония Рекс, королевская (семейство Бегониевые)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5257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одина – остров Ява. Это самая красивая из декоративно-лиственных бегоний. Невысокие растения с ползучим извивающимся свисающим стеблем, на котором видны многочисленные следы от опавших листьев. Листья крупные, очень красиво окрашенные – у некоторых сортов они темно-бордовые с серебристыми пятнами, у других серебристо-розовые, изумрудно-зеленые с темно-красной каймой, буроватые с серебристым оттенком. Края листьев ровные или изрезанные. Листья расположены на длинных черешках, покрыты редкими жесткими ворсинками. Цветет бегония мелкими светлыми цветочками. Сажают бегонию в неглубокий горшок с легкой земляной смесью, состоящей из листовой, перегнойной, торфяной земли и песка в соотношении 1:2:1:2.  Поливают бегонию летом обильно, зимой умеренно, желательно теплой водой. Размножается делением корневища с пучками листьев, листовыми черенками или листом, срезанным и поставленным в воду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0" y="2971800"/>
            <a:ext cx="177948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nastasiaScript"/>
              </a:rPr>
              <a:t>Сеткрезия (семейство Коммелиновые, родственное традесканциям)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личается большой декоративностью и разнообразием окраски. По размеру сеткрезии больше традесканций, у них крупнее побеги и листья, окраска листьев разная, в зависимости от видов бледно-зеленая, темно-зеленая, фиолетовая, светло-зеленая с белыми полосками; у одних видов листья и побеги густо покрыты мягким пушком, у других опущена часть листа – влагалищная или нижняя. Стебли растений разной длины: короткие, сильно ветвящиеся либо длинные, достигающие 1 метра. Цветут белыми или розовыми цветами. Растение требует светлого помещения. Уход за растением и размножение сеткрезий такие как у традесканций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56356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nastasiaScript"/>
              </a:rPr>
              <a:t>Хлорофитум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nastasiaScript"/>
              </a:rPr>
              <a:t>(семейство Лилейны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одина – Южная Африка. Широко распространенное неприхотливое ампельное растение с длинными ярко-зелеными линейными листьями, собранными в пучки. Существуют более декоративные разновидности хлорофитума: на их листьях есть яркие белые продольные полоски, расположенные по краю или в середине листа. У взрослого растения из середины пучка листьев вырастают длинные свисающие цветочные стрелки, на которых появляются невзрачные мелкие белые цветы, а затем детки (розетки листьев с воздушными корнями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Хлорофитум хорошо растет как в прохладных помещениях, так и в комнатах с более высокой температурой воздуха. Переносит затенение. Летом растение обильно поливают. Сажают хлорофитум в земляную смесь, состоящую из листовой перегнойной земли и песка в соотношении 2:2:1. Размножается растение отводками и молодыми листовыми розетками. Пестролистным разновидностям хлорофитумов требуется больше количества света; при недостатке света на листьях исчезает белая краска. Растение часто поражаются щитовой тл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42244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Примул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(семейство Первоцветны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на – Китай. Невысокое обильно и продолжительно цветущее растение с укороченным стеблем и длинночерешковыми листьями, собранными в прикорневую розетку. Листья светлые, почковидные, опушенные, с волнистым краем. Цветы крупные, простые, разнообразной окраски, чаще светло или темно розовой, иногда малиновой, собраны в соцветие зонти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имулы хорошо растут и цветут в светлом прохладном помещении; их иногда ставят в пространство между рамами окна, забирая оттуда лишь в сильные морозы. В этих условиях они особенно обильно цветут, причем окраска цветов становится густой и сочной. Цветут примулы всю зиму и до середины весны. Цветущие растения надо обильно поливать и удобрять; по окончании цветения поливку уменьшают. Пересаживают примулы ежегодно в легкую питательную почву, в которой нельзя добавлять свежий навоз, иначе растение заболеет и погибнет. Размножаются примулы делением растений при пересадк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120760" cy="21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371600" y="3166920"/>
            <a:ext cx="693432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22T09:25:4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